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BBB-9BBA-4FC2-B3B4-47C338F4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E58-3893-404F-9C56-1FB24BE7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2AE-9407-423B-9071-4492977E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4EB-B26B-405C-A0E9-B085AB15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A8D8-595B-4B76-B20D-EE65F1C2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E6F4-C1A9-455B-9081-CA29DFDA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C2D5-445A-4339-8AC5-12A4A961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5EF8-A3E2-4F62-9517-B30206DD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52A4-5CAB-4B28-8CAD-1760DACD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3872-5395-4E65-925D-1CEB3903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8F69-C5FF-47F0-BD5D-AA369AE0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238-512D-497F-B689-8CBA9963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CB4D-07C8-4DF8-AD9E-D3D96564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2E9C-DC09-4C23-9FA8-D6BF81C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0546-3390-41F7-BD75-9282DC2A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A175-0749-4BF3-83F3-457F9718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9ED5-39D9-4DD6-BA15-17C0444A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DCF-1BA7-4A53-89FC-E5B496A7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AB6-73A1-492C-AE80-929B282C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081-74DE-4B0A-9F05-35C7DEF7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383-5E17-4629-8AAD-30E66571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AD1-44F0-4FEA-B066-CFE8979D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E7D-BE77-4FA2-99FF-06F6F8A9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039-AB26-4A54-8A94-69FAAD5B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DFF3-4197-4FED-885E-044BABFEB1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9558-9D95-4D9C-B5AA-D10A5C5C9F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ec.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 for Juni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inue Whitm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c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ing assig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 for Fresh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Shoo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the first part of the new inter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ing assig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i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nch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a m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ya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9:37Z</dcterms:created>
  <dc:creator>VMS</dc:creator>
  <dc:description/>
  <dc:language>en-US</dc:language>
  <cp:lastModifiedBy>VMS</cp:lastModifiedBy>
  <dcterms:modified xsi:type="dcterms:W3CDTF">2009-11-30T16:22:55Z</dcterms:modified>
  <cp:revision>1</cp:revision>
  <dc:subject/>
  <dc:title>English</dc:title>
</cp:coreProperties>
</file>